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2A937-8305-42B4-87C4-CCAA1CA9E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C2DBD-CD14-4DCF-81B8-EEF42DAA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6590E-A5EC-43ED-963C-CDA1036E5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BFB9C-7293-4FD8-BDA3-E4B1A342F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E79C1-CD44-4528-9A0E-0B739453C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D44F-6BB0-4CE2-9AB2-12AD8DB4B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4F86-FB38-4903-9987-5DFE77FF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0D1A-D7E4-4BCE-A60A-A80981A7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08B6-17B5-44EF-A6E7-DF361F08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6EB1-0F10-4B22-A194-CB816547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E95DC-8840-4BF0-878E-7F41684E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DD20-7692-4B42-8078-4D85482B3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BF71-2815-43E7-BDEC-3F015B97C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3.org/Submission/OWL-S" TargetMode="External"/><Relationship Id="rId2" Type="http://schemas.openxmlformats.org/officeDocument/2006/relationships/hyperlink" Target="http://www.w3.org/Submission/SWSF/" TargetMode="External"/><Relationship Id="rId3" Type="http://schemas.openxmlformats.org/officeDocument/2006/relationships/hyperlink" Target="http://www.w3.org/Submission/WSM/" TargetMode="External"/><Relationship Id="rId4" Type="http://schemas.openxmlformats.org/officeDocument/2006/relationships/hyperlink" Target="http://www.wsmo.org/" TargetMode="External"/><Relationship Id="rId5" Type="http://schemas.openxmlformats.org/officeDocument/2006/relationships/hyperlink" Target="http://www.wsmx.org/"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Service Ontologies</a:t>
            </a:r>
            <a:endParaRPr b="0" lang="en-US" sz="4400" spc="-1" strike="noStrike">
              <a:solidFill>
                <a:srgbClr val="000000"/>
              </a:solidFill>
              <a:latin typeface="Arial"/>
            </a:endParaRPr>
          </a:p>
        </p:txBody>
      </p:sp>
      <p:sp>
        <p:nvSpPr>
          <p:cNvPr id="43"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9DC87E-85B7-4690-840F-5442B955893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4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5C88A7-70D2-4829-A09B-2DBE29D491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19100F-1AF5-45C3-B993-74A7DBEBA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49"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1E7FB7-9535-4E71-BDD4-9B0EB9B52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51"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52"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CAC7CC68-DEE6-49CB-BB73-8D0B3AE4F88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a:t>
            </a:r>
            <a:r>
              <a:rPr b="0" lang="en-US" sz="2000" spc="-1" strike="noStrike" u="sng">
                <a:solidFill>
                  <a:srgbClr val="009999"/>
                </a:solidFill>
                <a:uFillTx/>
                <a:latin typeface="Arial"/>
                <a:hlinkClick r:id="rId2"/>
              </a:rPr>
              <a:t>http://www.w3.org/Submission/SWS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a:t>
            </a:r>
            <a:r>
              <a:rPr b="0" lang="en-US" sz="2000" spc="-1" strike="noStrike" u="sng">
                <a:solidFill>
                  <a:srgbClr val="009999"/>
                </a:solidFill>
                <a:uFillTx/>
                <a:latin typeface="Arial"/>
                <a:hlinkClick r:id="rId3"/>
              </a:rPr>
              <a:t>http://www.w3.org/Submission/WSMX/</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ww.wsmo.org</a:t>
            </a:r>
            <a:r>
              <a:rPr b="0" lang="en-US" sz="2000" spc="-1" strike="noStrike">
                <a:solidFill>
                  <a:srgbClr val="000000"/>
                </a:solidFill>
                <a:latin typeface="Arial"/>
              </a:rPr>
              <a:t>, </a:t>
            </a:r>
            <a:r>
              <a:rPr b="0" lang="en-US" sz="2000" spc="-1" strike="noStrike" u="sng">
                <a:solidFill>
                  <a:srgbClr val="009999"/>
                </a:solidFill>
                <a:uFillTx/>
                <a:latin typeface="Arial"/>
                <a:hlinkClick r:id="rId5"/>
              </a:rPr>
              <a:t>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D80663-939C-4E56-8DB0-1EEAAA0E35E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31T20:39:38Z</dcterms:modified>
  <cp:revision>227</cp:revision>
  <dc:subject/>
  <dc:title>Test</dc:title>
</cp:coreProperties>
</file>